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9438-32B1-4E61-BC97-96CCD4486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NA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 is DNA fragments of multiple sizes with colors that can be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 is DNA fragments of multiple sizes with colors that can be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el separates the resulting fragments by size, we 'read' the sequence from bottom to t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el separates the resulting fragments by size, we 'read' the sequence from bottom to t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PC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hod of making many copies of a piec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PC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hod of making many copies of a piec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molecule is placed in a small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that can work at high temps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molecule is placed in a small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that can work at high temps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heated to separate the two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, short pieces of DNA complementary to the ends of the molecule to be copied, ar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heated to separate the two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, short pieces of DNA complementary to the ends of the molecule to be copied, ar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be is cooled, and DNA polymerase adds new bases to the separated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be is cooled, and DNA polymerase adds new bases to the separated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DNA can be made from a small starting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DNA can be made from a small starting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- a member of a group of genetically identic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produced by asexual reproduction (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- a member of a group of genetically identic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produced by asexual reproduction (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ell from one organism and an egg cell from another are 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cell divides like a normal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ell from one organism and an egg cell from another are 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cell divides like a normal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“Dol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oning “Dol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reatments cause cells and nuclei to 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inherently sticky, and can be pulled out of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“spooling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reatments cause cells and nuclei to 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inherently sticky, and can be pulled out of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“spooling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in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effort to sequence all of our DNA (46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.3 billion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every gene location (lo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by scientist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in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effort to sequence all of our DNA (46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.3 billion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every gene location (lo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by scientist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P Ins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2% of human genome codes for proteins (ex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98% (introns) are non-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bout 20,000 to 25,000 genes (expected 100,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ome – organism’s complete set of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8 million single nucleotide polymorphisms (SNP) – places where humans differ by a single 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½ of genome comes from transposons (pieces of DNA that move to different locations on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P Ins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2% of human genome codes for proteins (ex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98% (introns) are non-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bout 20,000 to 25,000 genes (expected 100,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ome – organism’s complete set of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8 million single nucleotide polymorphisms (SNP) – places where humans differ by a single 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½ of genome comes from transposons (pieces of DNA that move to different locations on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al prevention of disease, gene therapies, diagnosis techniqu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useful protein products for use in medicine, agriculture, bioremediation and pharmaceutical 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bioinformatics – using computers to help in DNA sequenc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al prevention of disease, gene therapies, diagnosis techniqu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useful protein products for use in medicine, agriculture, bioremediation and pharmaceutical 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bioinformatics – using computers to help in DNA sequenc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nefit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gene science to create new products from plants 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gene science to create new products from plants 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foo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hanc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foo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hanc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cide 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CP4 EPSPS = Round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rbicide 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CP4 EPSPS = Round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ulin (198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ercial biotech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, inexpensive source of insu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iched with beta-carotene and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 edible hepatitis vac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sulin (198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commercial biotech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able, inexpensive source of insu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nriched with beta-carotene and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n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taining edible hepatitis vac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toes with higher soli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lic that lowers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nd vegetables that redu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cancer and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toes with higher soli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lic that lowers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nd vegetables that redu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cancer and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oled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oled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pesticid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energy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e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soil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pesticid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energy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e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soil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ion enzymes cut DNA at specific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to divide DNA into manageable fra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ion enzymes cut DNA at specific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to divide DNA into manageable fra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n be separated based on size and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groups are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placed in a gel and electricity is run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n be separated based on size and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groups are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placed in a gel and electricity is run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DNA moves toward the positiv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fragments move farth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DNA moves toward the positiv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fragments move farth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 single strand of DNA are placed in a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of nucleotides is added some of which have dye molecul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ase (A,T,C,G) has a different color d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 single strand of DNA are placed in a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of nucleotides is added some of which have dye molecul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ase (A,T,C,G) has a different color d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hance, some dyed nucleotides &amp; some regular ones are ad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molecules are large and stop the chain from gr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hance, some dyed nucleotides &amp; some regular ones are ad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molecules are large and stop the chain from gr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1B919-3A5F-43A8-BF25-67ABBABA9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98380-BA9C-4538-AADB-C745ECB34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A6ED-A15A-4505-96FB-52C88ED01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440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98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440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598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2E36-82F6-4C32-8AB7-1B1C7317E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F3DC3-CEF4-4618-A676-5B947AAB9B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D43E1-EFDD-4E0C-A6D6-D244293015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0C202-5B71-4583-9093-8D8D4B1CDF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8C16E-5E21-4B25-8D9A-C570454596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1E619-5CCB-4160-96A2-5CE5270491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5530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A283D-D95F-4619-8CE9-B1584F954E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6AE1F-6F06-41E2-AD68-2B2C18E7C4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BC078-60E4-4DE1-97D0-EE82B16AC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56771-DDF9-4A75-A54C-F7BC6CB824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F8174-9714-470D-A7B1-C5FBA00C59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B8F20-0721-4B9C-A6D4-C11188BF1C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59417-05D8-4E53-B16C-9CBC76201A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440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98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440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6598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EC251-2313-409A-960E-166FE085AE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ECDE7-5228-4494-8434-C624A8028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D4BC4-037D-4A06-B368-3118AAC70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678C3-78A6-40C9-8B3B-6B737CEA5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5530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B9A8F-2196-45ED-854E-34FB3F0E7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3C66C-43C2-4C62-8006-0AE47AD14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9DB90-8A73-4EBA-B4A7-2C9BB33D1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848EF-0D38-45B1-A57F-47DBC526E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29040"/>
            <a:ext cx="4648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8765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0494-B921-480F-9781-AF488D412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838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cholHudson-Regula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4267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cholHudson-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9B7E-51B6-441E-805E-9A1AED6AC6F5}" type="slidenum"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arnegieinstitution.org/first_light_case/horn/DNA/images/dnaglopp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DNA Technolog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838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4267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resul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DNA fragments of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ultiple sizes with colors that can be identif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gelfrag"/>
          <p:cNvPicPr/>
          <p:nvPr/>
        </p:nvPicPr>
        <p:blipFill>
          <a:blip r:embed="rId1"/>
          <a:stretch/>
        </p:blipFill>
        <p:spPr>
          <a:xfrm>
            <a:off x="4648320" y="380880"/>
            <a:ext cx="1765080" cy="58104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6172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fter the gel separates the resulting fragments by size, w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'read' the sequence from bottom to to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function_showorfs_ex2"/>
          <p:cNvPicPr/>
          <p:nvPr/>
        </p:nvPicPr>
        <p:blipFill>
          <a:blip r:embed="rId1"/>
          <a:stretch/>
        </p:blipFill>
        <p:spPr>
          <a:xfrm>
            <a:off x="2133720" y="3581280"/>
            <a:ext cx="3838320" cy="30481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Polymerase Chain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so called PC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ethod of making many copies of a piec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pcr"/>
          <p:cNvPicPr/>
          <p:nvPr/>
        </p:nvPicPr>
        <p:blipFill>
          <a:blip r:embed="rId1"/>
          <a:stretch/>
        </p:blipFill>
        <p:spPr>
          <a:xfrm>
            <a:off x="1447920" y="3505320"/>
            <a:ext cx="4476600" cy="30477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in 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DNA molecule is placed in a small 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t can work at high temps i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200px-DNA_polymerase"/>
          <p:cNvPicPr/>
          <p:nvPr/>
        </p:nvPicPr>
        <p:blipFill>
          <a:blip r:embed="rId1"/>
          <a:stretch/>
        </p:blipFill>
        <p:spPr>
          <a:xfrm>
            <a:off x="2895480" y="4191120"/>
            <a:ext cx="215604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in 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6019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DNA is heate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separate the two 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Primer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short pieces of DNA complementary to the ends of the molecule to be copied, are ad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3400560" y="1190592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-50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800" y="-47725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400560" y="1190592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1800" y="-47725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3400560" y="1176768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ube is cooled, and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 adds new bases to the separated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replication"/>
          <p:cNvPicPr/>
          <p:nvPr/>
        </p:nvPicPr>
        <p:blipFill>
          <a:blip r:embed="rId1"/>
          <a:stretch/>
        </p:blipFill>
        <p:spPr>
          <a:xfrm>
            <a:off x="3352680" y="3657600"/>
            <a:ext cx="1505160" cy="28576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C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6477120" cy="4419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04920" y="58672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Large amounts of DNA can be made from a small starting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581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Comic Sans MS"/>
              </a:rPr>
              <a:t>Clone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ember of a group of genetically identic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y be produced by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sexual reprodu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mit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 organis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5943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body ce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rom one organism and an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gg ce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rom another are f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resulting cell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divides like a normal embr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 “Dolly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5029200" cy="49532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NA Extr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Chemical treatmen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cause cells and nuclei to bu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NA is inherently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ick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and can be pulled out of the mix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called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“spooling”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220968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uman Genome Proj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uman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6553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arted in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search effort to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quence all of our 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(46 chromoso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ver 3.3 billion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apping every ge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ocation (lo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ducted by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cientists around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GP Ins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6553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2%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human genome codes for proteins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(ex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ther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98% (intr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are non-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about 20,000 to 25,000 genes (expected 100,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Prote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– organism’s complete set of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ut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8 mill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ingle nucleotide polymorphisms (SNP) – places where humans differ by a single nucleot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ut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genome comes from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transpos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(pieces of DNA that move to different locations on chromoso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nefits of Human Genom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rovements in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medical preven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disease, gene therapies, diagnosis techniqu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roduction of useful protei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roducts for use in medicine, agriculture, bioremediation and pharmaceutical indus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roved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bioinformatic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– using computers to help in DNA sequencing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2438280"/>
            <a:ext cx="65534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nefits of 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84556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5639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Biotechnology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85800" y="2057400"/>
            <a:ext cx="586728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use of gene science to create new products from plants and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33520" y="838080"/>
            <a:ext cx="563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otechn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vid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533520" y="2362320"/>
            <a:ext cx="61722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proved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food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edica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dv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enhanced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84232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bicide Resistant C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4343040"/>
            <a:ext cx="8381880" cy="2133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soy V2 "/>
          <p:cNvPicPr/>
          <p:nvPr/>
        </p:nvPicPr>
        <p:blipFill>
          <a:blip r:embed="rId1"/>
          <a:srcRect l="15624" t="10418" r="15624" b="10418"/>
          <a:stretch/>
        </p:blipFill>
        <p:spPr>
          <a:xfrm>
            <a:off x="958680" y="1611360"/>
            <a:ext cx="2775240" cy="2397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3880080" y="2567160"/>
            <a:ext cx="433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+ CP4 EPSPS = Round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gen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858000" cy="129528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otechnology Breakthrou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553080" cy="292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sulin (19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st commercial biotech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liable, inexpensive source of insu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876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riched with beta-carotene and 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876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Ban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taining edible hepatitis vac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7010640" cy="114300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otechnology Breakthrou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2068200"/>
            <a:ext cx="6553080" cy="3273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Potato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higher solid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Garl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that lowers 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Fruits and vegetab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t redu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sks of cancer and heart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pooled” D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dnaglop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828800"/>
            <a:ext cx="2714760" cy="45054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vironmental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Reduced pesticid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ower energ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lean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ess soil ero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utt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Restriction enzym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ut DNA at specific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seful to divide DNA into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anageable frag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5562360" cy="31305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525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can be separated based on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ize and cha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phosphate 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negativel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charg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placed in 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g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lectricit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run th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pc1003"/>
          <p:cNvPicPr/>
          <p:nvPr/>
        </p:nvPicPr>
        <p:blipFill>
          <a:blip r:embed="rId1"/>
          <a:stretch/>
        </p:blipFill>
        <p:spPr>
          <a:xfrm>
            <a:off x="5486400" y="3048120"/>
            <a:ext cx="1374840" cy="13744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6553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Negative D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oves toward the positiv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mall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gments mov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arther and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gel"/>
          <p:cNvPicPr/>
          <p:nvPr/>
        </p:nvPicPr>
        <p:blipFill>
          <a:blip r:embed="rId1"/>
          <a:stretch/>
        </p:blipFill>
        <p:spPr>
          <a:xfrm>
            <a:off x="1371600" y="3990960"/>
            <a:ext cx="4267080" cy="25812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85800" y="1071720"/>
            <a:ext cx="5700600" cy="5600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eps in DNA Seque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ny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opi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a single strand of DNA are placed in a 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mixture of nucleotides is added some of which hav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ye molecules att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Each base (A,T,C,G) has a different color d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eps in DNA Seque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y chance,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ome dyed 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ome regular o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ad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ye molecules are large and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op the cha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from gro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06:01:19Z</dcterms:created>
  <dc:creator>Summer Smith</dc:creator>
  <dc:description/>
  <dc:language>en-US</dc:language>
  <cp:lastModifiedBy>LEGION</cp:lastModifiedBy>
  <dcterms:modified xsi:type="dcterms:W3CDTF">2016-12-07T12:35:27Z</dcterms:modified>
  <cp:revision>13</cp:revision>
  <dc:subject/>
  <dc:title>DNA Lab Techniques</dc:title>
</cp:coreProperties>
</file>